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7042-BEA9-4FAE-BEDC-E6F890364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AE79-00BB-4B52-8C50-BC8FF7726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34E9-6955-4556-BE97-726766295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6D7C-0824-4943-8AEA-F65B862CA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2EB-A7D6-4746-9CD2-5735B1C45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E11A-88AF-4530-8114-2C213545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B18C-5D08-4E41-BFA4-F34E217C7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E7BA-6DDE-456B-84B1-3B4A8B0B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74F3-6579-42B2-8586-A44907D2E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F85D-1D46-4964-8DC3-C76E74A68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DF0-8821-4588-8C8D-7D42D660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0231-C2EF-499C-93DA-089764F52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FAEA-585B-4CFA-8502-00F76DD3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5A3-7B46-43C8-8BAC-5CB1EEA9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BBE-F766-4BA8-A967-B89EF9EF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EF9F7-5704-43B6-B71F-5259A11F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E0163-F2F3-4ECB-8DD6-21DB3462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82634-6534-4CD6-8CF6-B4A7ECC0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2014E-F2EA-40B3-A154-26F4731D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A33A8-1BF6-4697-BADA-335D30B3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8CE77-B85C-4D45-87D3-8A80501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0BE78-9449-4EE7-AD12-130E8771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25618-A3F4-4BDC-94E5-233067FA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C0717-5FBF-4B3D-A646-C7A59A8F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2A3-2B6F-45C7-A131-884739CA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77F-E321-4BD0-8DD9-809DB4C3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9406-8FD9-4D3A-9684-A32EBC24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1293-A4CB-4792-8E67-4D7AAD57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7298-FE57-4618-B105-4FECA587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D0BD-50EE-4612-9C0A-3C4F3EB2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ED81-D918-47C1-9F05-CB7B3F1E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1A80-13AC-42F5-ADBC-5FDF8A40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FB24-E1EE-4792-BC70-BCEA1AB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D54-7A86-4859-B7F4-14B94A75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D242-5D41-4601-B1A7-80A495F9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F1B7-7D2B-4CDF-9795-ECF75715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BCAB-5145-4788-8450-C59FF86E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DE2A-7DFB-4AFF-98E2-592D3822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ECD7-69B8-49E7-97BA-81E6B06C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4DB4-094A-4117-BA37-9050CC98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A2D8-88B4-4102-8494-061AA128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3F42-8695-4505-A4A5-A9654360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3F39-EB41-4523-8291-212928CE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F82AC-78CB-428F-960F-1DD19F9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2CD-E50E-44B6-B9EF-373F69D2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52DF-75AA-4F1C-9771-32425789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F800-C25F-4CA6-858F-40DC9B22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E08B-D770-4EA4-9329-6B043CDF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78D7-5A63-4873-B245-B164B36F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2F35-8B94-4C87-9F04-23BACFD2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0CAE-E787-4615-9A73-497CEFFB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6DA1-2D46-4DAF-A6C8-FA59D05F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C60D-A37C-405B-A183-21103877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7BD3-D7F3-4D81-B04A-5D0B8CD0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BA6A4-BFD0-400B-BAE4-D33C37FB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434-CCFC-4582-A7AC-E9432D7E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7FF0-99F5-4C9C-9C51-6A50E365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28CDC-9AB9-46B4-A6CE-8F51B3BF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11C2-388B-4953-AE62-5C4AC3CC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A366B-192D-40BF-985F-F432896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67539-F575-4D16-94B5-0BAD01CB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860A1-A821-4838-BFB1-B26E2E00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2565-3092-4C25-AC28-2D7DD7F7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20838-84C3-4F89-8F19-E56CE25C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8B28-B8F6-41C5-8AB4-51B55E40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5498C-D72D-4608-B108-3CC8A2D2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97E-E8C4-42A4-BD60-CA687624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202BF-FF31-47C7-B6EA-35037526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7A66-A790-442A-A4BE-00AF1044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7038E-DEBD-46B7-89BA-8C674D6C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9C96-6AC0-4B75-AEFA-121F6FBD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3AC80-2171-4BC2-9E98-A5A94BB6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44BE0-5926-4E64-BE5B-8226AC81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8D1D0-EB88-4A28-8EC6-5C2E4319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0C198-2DDA-458B-9773-D3FE20CE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EFFBC-37F7-4FB0-B29D-88F8E991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D0B4C-E5EF-449E-B6ED-9BEAE419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D0D-9C48-4B0A-B7C8-B3F528CF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F8D92-FBF6-4589-8C40-1545D56D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B32A-F067-430F-ADAA-22F31AA5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42D6F-9B60-46B6-A3DB-F6144C79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FEFE7-1147-4642-82BB-3F44BADE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42431-DD28-4E05-A5CE-D5DE93CF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A7B86-9B01-4828-A352-1234A442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47A14-E0F2-4990-B9B6-5A615973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27244-B529-4EE2-AF6F-A1A8DEF4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3A743-44EB-440F-9064-8674DD70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14A2D-31AE-432D-B485-F96950A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AE6-4F91-4710-8D56-4BAB6B4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A3DB5-66EB-4C92-B1BA-9E7A7DCF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3F5B3-6C29-4BEB-A43C-71F54174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1E89F-D821-41D8-BED7-61A216CC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91B0D-5CDD-4B03-8E06-6495469D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FB595-B5E4-4532-B4AD-A0A6D31E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C3CFC-2963-4E91-B9A0-3C7C5BF5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7EB1C-6260-4445-9CA6-9E635FE0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1174-F29E-414C-A3C1-6B487577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6F640-B7A0-4C63-BB81-34608CBC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57625-605C-47B3-9910-B4044E6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178-7226-420E-A78C-68CC6C4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19012-8614-4EB1-B7F9-EA02BAE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0EB15-6F93-4C09-A04C-CA05E083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BF0D6-C118-45AE-9BFF-2DC4ED68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8E317-9428-48DB-971B-2B8458A8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26057-6256-4ACD-A015-E6C33AF2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5B635-0BA4-4454-85AF-BA2C5A01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EE22A-4953-42E3-91D9-8E1F1E61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35BAD-2263-43C4-8346-46A2603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EDB41-C3B0-4FF6-B9C1-D4E0F3A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A7BC7-FB0F-48BC-A5BF-C35F3015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C0F-F6A2-4C94-952B-99C23EDD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9AB1-B5B6-4F04-A3D3-3C1696DC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A09A5-BFD3-4617-88B7-24972B0B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D101F-5945-482F-801B-49FE227C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783E8-1099-42BF-95B7-DB5F7D78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A5B6A-D583-4A40-92DC-E144C757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68A8A-3BF1-4588-B40B-355A2EAB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9644D-0466-4751-A3FF-1CFC686F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FDB27-3300-41F8-B51A-E5AFE933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4D0B8-535C-41D8-8F85-65A8C785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51050-7D8B-4B37-90AB-8186040A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24C6-9631-4835-958A-4475C379FB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6D88-9FDA-46C5-AF4F-5C625A6C24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8816-A46D-4643-ACC1-116E0822AD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57F8-E374-4C1C-93F4-F9C58F9189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7B9E-CE30-4621-AD30-280FEAF9DF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0BC7-5AFF-4484-B991-4C6C354FAA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D238-235A-4769-9DA0-BE30F52B0A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CDD6-61CC-411A-9BC3-044C6F2BD9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012F-D99B-4A10-868D-88D6097B4C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awma.org/resources/education/outreach/images/trash.gif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263160" y="1676520"/>
            <a:ext cx="720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arly waste dis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ies near rivers, dumped 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industrial areas expande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 and contain” became pop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ifficult to “really” cont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s break, leak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roduce too much waste and we are running out of places to dump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</a:t>
            </a:r>
            <a:r>
              <a:rPr b="0" lang="en-US" sz="2400" spc="-1" strike="noStrike">
                <a:solidFill>
                  <a:srgbClr val="e2f717"/>
                </a:solidFill>
                <a:latin typeface="Times New Roman"/>
              </a:rPr>
              <a:t>4.5 l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person per d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762120" y="3808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hapter 30</a:t>
            </a:r>
            <a:br>
              <a:rPr sz="3200"/>
            </a:b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Wast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449" name="Picture 5" descr="fig_1_full"/>
          <p:cNvPicPr/>
          <p:nvPr/>
        </p:nvPicPr>
        <p:blipFill>
          <a:blip r:embed="rId2"/>
          <a:stretch/>
        </p:blipFill>
        <p:spPr>
          <a:xfrm>
            <a:off x="228600" y="228600"/>
            <a:ext cx="861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263520" y="990360"/>
            <a:ext cx="796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re are no laws against waste tra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ates import waste from other countries and trade waste amongst themselv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asel Convention in late 1980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nd toxic waste was being shipped in large amounts to developing countries and Eastern Euro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re is a movement to outlaw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-42840" y="122400"/>
            <a:ext cx="77486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CERCLA (1980)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 policy regulating disposal of hazardous substa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uperfund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stablish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mendments in 1984 and 1986 tightened standards, banned land disposal of certain chems and increased size of superfund size (doubled i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2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tras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401840"/>
            <a:ext cx="69339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04920" y="1523520"/>
            <a:ext cx="7386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is #1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spaper is much of that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’ Waste Manag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f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225360" y="73080"/>
            <a:ext cx="7486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0456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gressive states are shooting for 70% reduction by recycl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ltimate goals = zero production of wast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olid Waste Disposal Act of 197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PA does not enforc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l Integrated Waste Mgmt Act of 1989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ka: AB93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lled for 50% recycling by 200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e met it (52% in 2006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74930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terials managemen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No subsidies for using virgin material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ike timber, oil, minerals…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green building” incentiv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financial penaltie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r “non-green” produc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Financial incentive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r industry to benefit env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it ‘em or help ‘em where it hur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4358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63160" y="1598400"/>
            <a:ext cx="7737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mallest possible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ily cover with soil to cut back of birds, rodents, insects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ultiple barriers (double lined) such as clay and plastic lin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iquid drainage and gas coll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reful monitor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6324480" y="63244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228600" y="22860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46"/>
                </a:solidFill>
                <a:latin typeface="Arial"/>
              </a:rPr>
              <a:t>Fig 28.4  The most desirable landfill site in a humid environ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F28_4"/>
          <p:cNvPicPr/>
          <p:nvPr/>
        </p:nvPicPr>
        <p:blipFill>
          <a:blip r:embed="rId2"/>
          <a:stretch/>
        </p:blipFill>
        <p:spPr>
          <a:xfrm>
            <a:off x="228600" y="247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7"/>
          <p:cNvSpPr/>
          <p:nvPr/>
        </p:nvSpPr>
        <p:spPr>
          <a:xfrm>
            <a:off x="5334120" y="17524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y above water table, relatively impermeable layer below, natural filtration as seeps down very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oluble materials leach into groundwa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uno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eavy metals retained in soi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lants taking up heavy metals and passing into food cha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8540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ver 250 million metric tons generated annually in U.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5,000 chems in U.S. classified as hazardo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sposal is one of most serious env. problems in U.S. tod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y leak into groundwater, soil and surface wat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23:37:39Z</dcterms:created>
  <dc:creator>tosborne</dc:creator>
  <dc:description/>
  <dc:language>en-US</dc:language>
  <cp:lastModifiedBy>Teri Osborne</cp:lastModifiedBy>
  <dcterms:modified xsi:type="dcterms:W3CDTF">2012-04-10T02:58:36Z</dcterms:modified>
  <cp:revision>30</cp:revision>
  <dc:subject/>
  <dc:title>Chapter 27 Waste Management</dc:title>
</cp:coreProperties>
</file>